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47BC-E146-44DC-BF0C-3D82E224CE7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ater  Supply and Sanitation SWAPs</a:t>
            </a: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What would it take to accelerate WSS SWAps in Africa?</a:t>
            </a:r>
            <a:br>
              <a:rPr sz="2400"/>
            </a:b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UWI Finance Working Group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Stockholm, August 25 2006</a:t>
            </a:r>
            <a:br>
              <a:rPr sz="6700"/>
            </a:b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3640" y="5768640"/>
            <a:ext cx="73911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Meera Meht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Water and Sanitation Program – Africa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pport activities by Water and Sanitation Program in Afric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 assist governments i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mproving sector readines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approach and country process for sector financing strategie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WIF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 sect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dget and MTEF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and sector information and monitoring system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I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 – adapt tools with lessons from country suppor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Country-owned MDG road map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support consultation process at country level to develop sector program and investment pla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port opportunities f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outh-south learning and experience sha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– areas of concer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adiness of donors – continui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need for attribu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ecent reemergence of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duciary concerns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kes additional demands on SWA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dequate focus o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information and monitoring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–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anitation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ntinues to be a difficult issue – multi-ministerial mandates and lack of agreement on ‘right’ approaches make it difficult to ensure ‘sector readiness’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64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Thank You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Outline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wha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SWAp and its benefit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country experi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is needed to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accelerate / increase SWAp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 WS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, 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39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 what is SWAp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Most significant public funding for the sector supports 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single sector policy and expenditure program under government leadership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adopting common approaches across the sector, an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progressing towards relying on government procedures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to disburse and account for all public expenditure, however funde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 i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not necessarily Budget Suppor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Pooled Fund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not a must!!!!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tential Benefits of a SWAp for the Clien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Uniform approac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ules makes consistent implementation and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caling u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asi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ngthen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’s own systems and enhances ownershi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ver tim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reduces transaction cost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 aid coordinat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hanc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predictability for external financ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amlin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and report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vailing WSS sector context in many African countri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large number of donors and funders – but with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own priorities and rules of engage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have coherent sector budgets and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nerally a sector policy exists – but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lack of a costed program and financing strateg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implement the policy, and monitoring continues to be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clave projects continue to b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slands of excelle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at fail to build up local systems, making them unsustainabl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7280" y="404280"/>
            <a:ext cx="45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Country Experienc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leader, successful SWAp, PRSC for RW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Tanzan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for RWSS SWAp, jointly by government and donor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Keny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reforms in place; systematic approach to donor coordination and attempt to address sector readiness (SIP, 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Zamb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experience for RWSS SWAp, jointly by government and donors, attempt to evolve sector readiness (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eni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- emerging experience for RWSS SWAp, jointly by government and donors (agreed sector strategy, financing strategy,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Senegal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 (SIP, sector information and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urk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, Development of a Sector Budget Program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Mozambiqu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attempted but not successfully in the past,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Ethiopi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government has used the approach in the Bank project to guide sector investments and initiated work on financing strateg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Building Block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at country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ector Readiness for SWA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Policy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rategy with Government leadership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udget and MTEF-linke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ector Program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Information and Performance Monitoring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armonization and consultation process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Formal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donor coordin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process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partnership principles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rocess towards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harmonizing government/donor fiduciary and safeguard processes 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(FM, procurement, env/social)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ystematic mechanisms f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akeholder consult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capacity building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Possible Links to Financing Modalit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77708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6394320"/>
            <a:ext cx="79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yer P. et. al. 2006. “Budget Support Primer.”, World B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66760"/>
            <a:ext cx="2124000" cy="642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W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Building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27082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270828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2781360"/>
            <a:ext cx="5047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2781360"/>
            <a:ext cx="5047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2781360"/>
            <a:ext cx="504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716280"/>
            <a:ext cx="161928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Improved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524720" y="4365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5451480"/>
            <a:ext cx="215892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Varying mix of external fina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5080" y="443664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48360" y="443700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48360" y="472428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country experiences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o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 lead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ssential especially from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ministr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akeholder consultations (with regular fora for joint decisions) help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ild confidence and enhance own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strategies and SI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tting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asics righ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s important in each SWAp building block – but need to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tart wit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what is possible and adapt sequenc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o local country realiti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5:13:12Z</dcterms:modified>
  <cp:revision>353</cp:revision>
  <dc:subject/>
  <dc:title>PowerPoint Presentation</dc:title>
</cp:coreProperties>
</file>